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29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12.wmf" ContentType="image/x-wmf"/>
  <Override PartName="/ppt/media/image8.png" ContentType="image/pn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953-F7BA-4908-90F4-E16EDD09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58F-F221-4B46-97DF-3B0449FA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04BA1-B29F-42F4-B22D-D52F77B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E7B94-D86A-4C5F-8830-DE2C99D5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7F87A-0E07-46A9-85CA-D6431528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07EC9-29BA-4186-9298-1DC1BF72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4B81E-BC83-4AD2-941C-22EF67EF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A73B3-43FE-4B89-900A-A70B208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5F467-567B-45D4-86F4-5AEEFD71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27E48-51C0-42E2-BB5D-8857CF3C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95CA0-275C-4BB0-B5FF-59E0D772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526B4-09D8-4AC6-ADA2-59860A9A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E2E-EBCE-4564-9725-F6C92F7E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6C37F-6C7E-4229-8F70-67F0213D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66B86-B4A7-4665-A84E-F269F9B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3BB4-C742-4C7E-AD82-7B76C4D7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5A214-1E07-4021-AD87-1B5F701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D59FC-F4AC-4E6C-A2BC-122A904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0F42B-CE62-4F44-87E0-02CFA78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BE044-2D4E-4A15-9641-0B9887F0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D5F9D-EA03-4131-9126-08F3DC5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D64BE-AD7D-4977-8E3B-6582CF66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D9E93-20CB-4C68-AA2A-33EB18C9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BFD-4D5A-4FC9-BA64-56AF416F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B6D45-75D2-4DA1-8A34-7740A94C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20B94-8AFB-42A5-B6E6-E6090FBA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B53DE-3829-45AF-8F0C-7C36C25C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22F7-A66C-449A-8A3D-7D241E4E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1ABC9-268A-4C65-A5E1-245F898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D465B-7F42-49DF-9D41-86CF4A1D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CF2DA-E19F-48CD-B0BD-4AB1A73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5896D-DE18-4851-9CDC-27F2E81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E62C4-5F02-471E-A662-FB8BBA0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8D15-F75B-43F7-AB4A-F89A7746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C583-961E-4B7B-A643-DB36FA72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B9B6E-75AC-4549-86A1-B5B63225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62367-9268-4743-A595-FCF44064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86D72-5E82-4D48-B49B-EDD1B7B9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7AA-FD08-4FF2-A30B-CFF6E6C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8CF5-C266-40A2-AFF2-0BB28E2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B335-2735-4F08-995D-6BAB6344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CAB9-DE08-4828-A2AC-EC8B876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C1B-7B34-4737-BD1A-0D8FC68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B9E8-F11B-466F-BD5B-F7A75F6F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C9C-9138-4646-922F-4DA18CF5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507A-7199-492B-8D89-A8342C2E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F53-4244-4AD5-868A-7049889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01E4-7052-433F-976B-10B77800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C069-7B3E-4A33-973B-83547C34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0808-C123-418D-A304-84D72F46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57C8-0B98-4FA2-9CBE-1C28CAE0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CB26C-E0B6-4064-8DE2-D8FCA62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3238-D8C2-4156-A25B-91402333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584A-7C56-4CC5-BFA2-545AFA2A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99C9-A381-44B7-A868-DA1AFE07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5F0-1617-4EE3-AD16-19128F1A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B66C-B8B3-49AB-B55B-C2F2883E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B788-864B-4658-956B-96FB6B9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7755-DE44-4DEE-A834-59AD65E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A0AC-B8E1-4C4B-9386-B51A711D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434D-D32D-496B-86F7-6AF34CC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DC7D-D0E4-468C-AAC7-439E98AF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315C-0E7D-424C-869A-1E6F1016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DF0A-469F-476E-B14C-8E5EA8D2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59882-0B65-481E-924A-AAF4467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F8EA-1188-495E-887A-AD52D296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2E7-A1C1-4DB0-B851-AC718FC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84CFE-341F-40C8-BA48-D695DD0E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B247-95A0-4339-9704-7DF1E8FB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742B-3192-4DE8-9A00-DF764E1A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9E7C-7567-487D-A65E-AF5A833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9011A-5948-49E8-AC15-6149F711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38A6-9DA3-47AA-8E43-6BFAC76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27B2-FB0C-45ED-8C3F-CB2970F3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638C-208D-447E-BD30-9F48CA3B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A9D5-8FEC-42DB-9581-F95548CE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69F53-A276-4E34-9F32-927C8B14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703-3C24-4220-9148-42832C3A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D086-D613-4F94-B8F1-853EBBE2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B875-F425-480B-8ED2-67B5916A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EC3E-7FDC-4D08-947E-F708B37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3994-A497-4DF5-B84D-9D78B10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C84EF-B92E-4A62-AA6F-50F3BE2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1CA3-B639-46B9-8E63-3BD537EA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4A3E-3AB9-4752-A756-C4DD54C3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72C7-A954-408F-87F7-72D7B645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590D7-34FE-4D63-B220-AE8C9BF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1FC0D-4013-4CBA-BD81-492489B3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E58-4942-4821-9933-96671656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BC7B-8AE2-443E-BD85-099DA134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36E9D-071F-4CA1-A1F1-7CF2E5D5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F49D-D373-46C8-A4C0-54C0413D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7991E-31A3-4783-A91C-3B872B4C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66E4-70B7-4A1A-8FB5-AB571989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57041-7CBA-409A-95BD-B8B64367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C8BA-504E-47A2-AB3C-DCF29AD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02F92-7D7A-4956-B0CB-57BC028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87C5-C800-4A86-B637-C4B8EA07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478F2-B9A4-4160-A280-A27A22C0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6E7-C878-4BA9-A483-D0378DC1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023F3-7CC4-498A-BD8A-92A67B9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CE05-B468-43D8-B47F-A176185F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7E5EE-2142-4E2F-86C9-87ADF6C2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DF0FD-4E5F-4542-98AF-44734A16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26119-6A80-4E26-ADA6-2162647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7DC7-03AA-4DEF-B874-53B5F45D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D32C-F1F2-43EB-8A93-E5691BCC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4193-FF8A-49F7-8F12-1E881143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A474D-CB14-4482-95B2-B92EC1E0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0C4DC-DA08-4B81-98D2-6174FA3A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C63-B9EB-4202-9A86-384E3DF4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9303F-17DB-4A51-A588-F699EDF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5141-79A2-4C77-B62E-B119DC6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A1CF-0AA6-46B5-B2BC-90B207C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FF2F-67CC-49B3-968C-27AD2476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9DEE3-2860-4EF7-A472-B62395E1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3783B-5DC4-4309-8BDA-94AFBED1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CE63C-EE12-431C-A251-80CE6811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9F66E-5746-44F0-94F0-B1A1CC04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C38FA-3A78-4EFF-885D-9D46E45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5B900-7FDD-4703-B95C-C4BDFA18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03F-CC8B-4940-95A2-B5603F5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14AA-665B-4FD3-AA15-EDB37FAE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96ECC-18BC-47B9-AFF9-3CF93FA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566AD-740E-4756-B528-310AF59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C3EF9-AA9E-4922-BEF2-71E24560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5B75B-967C-4AFA-A37E-63AE3FC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91167-5626-414A-8548-74FAFE71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EC4A0-5404-44FE-986A-C7D16529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07A54-A8F5-4B39-A7A0-77CD85D6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E5675-A679-4820-87F1-B4525A4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EF034-650D-4E9B-8699-B06C69EC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FE9-635D-404E-9A54-695182D1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6E66-B072-4E34-B2E5-3F6D9C91D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B329-53ED-4C1E-ABF4-309A6D2A0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528F-1A89-463F-9EE0-0ACE5D00B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DCB4-9AFC-44C4-AE33-E95112AD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50A-AA29-42A2-9149-0AD0C249A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B64-2918-4526-9EA5-00325122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64CA-05C3-4FC1-BEAD-428AF726D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2BA-57D0-4D00-8AEE-35F75A83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8D7F-3D5F-4730-83A2-936F408F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007C-D37E-4C4E-A104-34DFACF9E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200861795854662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dyd"/>
          <p:cNvPicPr/>
          <p:nvPr/>
        </p:nvPicPr>
        <p:blipFill>
          <a:blip r:embed="rId3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B1D9-3231-472F-92CC-8EEF3427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2007012723312755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97164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标调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187280" y="90792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ɑ o e,i u 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标调时按顺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，不放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标调就摘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并排标后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EEB0-1CEB-4B87-9384-0369C1AA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3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4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3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4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46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547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48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49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550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1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553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4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5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556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7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5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D246-5481-4F8C-A9DA-C9F1D6C68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469440" y="7200"/>
            <a:ext cx="8461080" cy="6801120"/>
            <a:chOff x="469440" y="7200"/>
            <a:chExt cx="8461080" cy="6801120"/>
          </a:xfrm>
        </p:grpSpPr>
        <p:sp>
          <p:nvSpPr>
            <p:cNvPr id="562" name="AutoShape 4"/>
            <p:cNvSpPr/>
            <p:nvPr/>
          </p:nvSpPr>
          <p:spPr>
            <a:xfrm rot="3261600">
              <a:off x="6045480" y="25596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 rot="4644000">
              <a:off x="6609600" y="1465920"/>
              <a:ext cx="186228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6"/>
            <p:cNvSpPr/>
            <p:nvPr/>
          </p:nvSpPr>
          <p:spPr>
            <a:xfrm rot="7293600">
              <a:off x="6059160" y="413496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 rot="5988000">
              <a:off x="6604920" y="282420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8"/>
            <p:cNvSpPr/>
            <p:nvPr/>
          </p:nvSpPr>
          <p:spPr>
            <a:xfrm rot="14237400">
              <a:off x="1357560" y="4151880"/>
              <a:ext cx="1862280" cy="24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9"/>
            <p:cNvSpPr/>
            <p:nvPr/>
          </p:nvSpPr>
          <p:spPr>
            <a:xfrm rot="15619800">
              <a:off x="894240" y="294552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0"/>
            <p:cNvSpPr/>
            <p:nvPr/>
          </p:nvSpPr>
          <p:spPr>
            <a:xfrm rot="16963200">
              <a:off x="931680" y="155664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1"/>
            <p:cNvSpPr/>
            <p:nvPr/>
          </p:nvSpPr>
          <p:spPr>
            <a:xfrm rot="18269400">
              <a:off x="1473120" y="28728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3278160" y="2057400"/>
              <a:ext cx="281916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WordArt 13"/>
            <p:cNvSpPr txBox="1"/>
            <p:nvPr/>
          </p:nvSpPr>
          <p:spPr>
            <a:xfrm>
              <a:off x="3735360" y="2514600"/>
              <a:ext cx="178092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7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4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577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78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79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580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1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583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4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586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7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8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572-DB8D-4662-8E57-FCC84D22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9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02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3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5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607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08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610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1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2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613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4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5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616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7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1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0742-E031-4C85-A213-5ECEC7BC6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ai4"/>
          <p:cNvPicPr/>
          <p:nvPr/>
        </p:nvPicPr>
        <p:blipFill>
          <a:blip r:embed="rId1"/>
          <a:stretch/>
        </p:blipFill>
        <p:spPr>
          <a:xfrm>
            <a:off x="2916360" y="333360"/>
            <a:ext cx="3487680" cy="5357880"/>
          </a:xfrm>
          <a:prstGeom prst="rect">
            <a:avLst/>
          </a:prstGeom>
          <a:ln w="0">
            <a:noFill/>
          </a:ln>
        </p:spPr>
      </p:pic>
      <p:sp>
        <p:nvSpPr>
          <p:cNvPr id="62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9908-132E-4316-8AEC-CD8F1673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ai5"/>
          <p:cNvPicPr/>
          <p:nvPr/>
        </p:nvPicPr>
        <p:blipFill>
          <a:blip r:embed="rId1"/>
          <a:stretch/>
        </p:blipFill>
        <p:spPr>
          <a:xfrm>
            <a:off x="2771640" y="404640"/>
            <a:ext cx="3649680" cy="5381640"/>
          </a:xfrm>
          <a:prstGeom prst="rect">
            <a:avLst/>
          </a:prstGeom>
          <a:ln w="0">
            <a:noFill/>
          </a:ln>
        </p:spPr>
      </p:pic>
      <p:sp>
        <p:nvSpPr>
          <p:cNvPr id="62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6B6-FD41-4729-A948-0F9A4B9E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ai6"/>
          <p:cNvPicPr/>
          <p:nvPr/>
        </p:nvPicPr>
        <p:blipFill>
          <a:blip r:embed="rId1"/>
          <a:stretch/>
        </p:blipFill>
        <p:spPr>
          <a:xfrm>
            <a:off x="2627280" y="404640"/>
            <a:ext cx="3941640" cy="576432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F07-1A66-465A-9EC9-595AB9CF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ai7"/>
          <p:cNvPicPr/>
          <p:nvPr/>
        </p:nvPicPr>
        <p:blipFill>
          <a:blip r:embed="rId1"/>
          <a:stretch/>
        </p:blipFill>
        <p:spPr>
          <a:xfrm>
            <a:off x="755640" y="7668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63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A62F-0516-476B-8FD4-400759A1E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9" descr="168_5795"/>
          <p:cNvPicPr/>
          <p:nvPr/>
        </p:nvPicPr>
        <p:blipFill>
          <a:blip r:embed="rId2"/>
          <a:stretch/>
        </p:blipFill>
        <p:spPr>
          <a:xfrm>
            <a:off x="1042920" y="2637000"/>
            <a:ext cx="5145120" cy="3652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2500560" y="620640"/>
            <a:ext cx="2478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á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c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白     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5919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2485-7249-4376-BA2A-AA41B467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73806f722rfnycd"/>
          <p:cNvPicPr/>
          <p:nvPr/>
        </p:nvPicPr>
        <p:blipFill>
          <a:blip r:embed="rId2"/>
          <a:stretch/>
        </p:blipFill>
        <p:spPr>
          <a:xfrm>
            <a:off x="1979640" y="278136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2202480" y="649440"/>
            <a:ext cx="29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玫       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BAED-F84D-4ED4-AF51-6BC1B1C34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3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MS PGothic"/>
              </a:rPr>
              <a:t>a o e i u 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1763640" y="1052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单韵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763640" y="35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á  è  ǐ  ū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16F0-3B50-4A42-8DAB-711C1301C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20075180292"/>
          <p:cNvPicPr/>
          <p:nvPr/>
        </p:nvPicPr>
        <p:blipFill>
          <a:blip r:embed="rId2"/>
          <a:stretch/>
        </p:blipFill>
        <p:spPr>
          <a:xfrm>
            <a:off x="1476360" y="2708280"/>
            <a:ext cx="4317840" cy="35305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370600" y="620640"/>
            <a:ext cx="26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杯 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545-597D-4A68-8A10-1EF14FCE1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8"/>
          <p:cNvSpPr/>
          <p:nvPr/>
        </p:nvSpPr>
        <p:spPr>
          <a:xfrm>
            <a:off x="228276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20051475036753"/>
          <p:cNvPicPr/>
          <p:nvPr/>
        </p:nvPicPr>
        <p:blipFill>
          <a:blip r:embed="rId2"/>
          <a:stretch/>
        </p:blipFill>
        <p:spPr>
          <a:xfrm>
            <a:off x="1763640" y="2708280"/>
            <a:ext cx="3960720" cy="3429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1"/>
          <p:cNvSpPr/>
          <p:nvPr/>
        </p:nvSpPr>
        <p:spPr>
          <a:xfrm>
            <a:off x="2508120" y="636480"/>
            <a:ext cx="227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490F-A2E3-40B0-8B16-6F0407E5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339640" y="620640"/>
            <a:ext cx="268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     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       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yqlovestory,20070707123315855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ACA-46D8-4EE2-8DAD-6348F6865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haigui2_002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310120" y="620640"/>
            <a:ext cx="26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海     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37EF-E06E-4D25-A42D-B81AAFF7E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964300221847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85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2397960" y="620640"/>
            <a:ext cx="231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飞     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A49E-7F6C-4173-96D9-CE23A4AB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200610822521553377"/>
          <p:cNvPicPr/>
          <p:nvPr/>
        </p:nvPicPr>
        <p:blipFill>
          <a:blip r:embed="rId2"/>
          <a:stretch/>
        </p:blipFill>
        <p:spPr>
          <a:xfrm>
            <a:off x="539640" y="2492280"/>
            <a:ext cx="6264360" cy="39229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185560" y="620640"/>
            <a:ext cx="285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梅      花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A18-0B7F-4B4E-819D-8ACD7CCF5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016p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751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491200" y="549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sh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袋   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27C1-0CB8-4C9F-9A4A-7DC559095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butterfly1"/>
          <p:cNvPicPr/>
          <p:nvPr/>
        </p:nvPicPr>
        <p:blipFill>
          <a:blip r:embed="rId2"/>
          <a:stretch/>
        </p:blipFill>
        <p:spPr>
          <a:xfrm>
            <a:off x="900000" y="414972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butterfly1"/>
          <p:cNvPicPr/>
          <p:nvPr/>
        </p:nvPicPr>
        <p:blipFill>
          <a:blip r:embed="rId3"/>
          <a:stretch/>
        </p:blipFill>
        <p:spPr>
          <a:xfrm>
            <a:off x="2268360" y="4724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112536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ái ɡē      dài shǔ    mǎi c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á bēi    huà méi   wěi b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uíjīn     hē shuǐ    pái d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4C0-9E1A-4AEB-A770-000F94B9A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2334240" y="575136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āi sh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栽  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839400" y="575136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i t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  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238720" y="573408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í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 水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898560" y="4665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ā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h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ǒ  qù  tí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栽    树  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培   土 ， 我   去  提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D986-D07F-4BA6-B793-8B11407C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W020070323694530889248"/>
          <p:cNvPicPr/>
          <p:nvPr/>
        </p:nvPicPr>
        <p:blipFill>
          <a:blip r:embed="rId1"/>
          <a:srcRect l="14433" t="19520" r="10867" b="24384"/>
          <a:stretch/>
        </p:blipFill>
        <p:spPr>
          <a:xfrm>
            <a:off x="-36360" y="0"/>
            <a:ext cx="9432720" cy="566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826920" y="58294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（    ），他（    ），我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4787-1370-4DAF-88B9-CBD06CBC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Documents and Settings\dell\桌面\12.jpg"/>
          <p:cNvPicPr/>
          <p:nvPr/>
        </p:nvPicPr>
        <p:blipFill>
          <a:blip r:embed="rId1"/>
          <a:stretch/>
        </p:blipFill>
        <p:spPr>
          <a:xfrm>
            <a:off x="0" y="0"/>
            <a:ext cx="913140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395280" y="90792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单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435640" y="981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557440" y="4076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52280" y="4067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787400" y="5373720"/>
            <a:ext cx="4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2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85308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439640" y="3929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65A0-1649-4671-B28A-3A4347AE3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3"/>
          <p:cNvGrpSpPr/>
          <p:nvPr/>
        </p:nvGrpSpPr>
        <p:grpSpPr>
          <a:xfrm>
            <a:off x="4140360" y="2205000"/>
            <a:ext cx="4176360" cy="1584000"/>
            <a:chOff x="4140360" y="2205000"/>
            <a:chExt cx="4176360" cy="1584000"/>
          </a:xfrm>
        </p:grpSpPr>
        <p:sp>
          <p:nvSpPr>
            <p:cNvPr id="478" name="WordArt 4"/>
            <p:cNvSpPr txBox="1"/>
            <p:nvPr/>
          </p:nvSpPr>
          <p:spPr>
            <a:xfrm>
              <a:off x="414036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79" name="WordArt 5"/>
            <p:cNvSpPr txBox="1"/>
            <p:nvPr/>
          </p:nvSpPr>
          <p:spPr>
            <a:xfrm>
              <a:off x="732564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0" name="WordArt 6"/>
            <p:cNvSpPr txBox="1"/>
            <p:nvPr/>
          </p:nvSpPr>
          <p:spPr>
            <a:xfrm>
              <a:off x="5768640" y="2205000"/>
              <a:ext cx="99072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81" name="WordArt 7"/>
          <p:cNvSpPr txBox="1"/>
          <p:nvPr/>
        </p:nvSpPr>
        <p:spPr>
          <a:xfrm>
            <a:off x="826920" y="2205000"/>
            <a:ext cx="25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复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68360" y="549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拼音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563A-626A-4235-ACE6-BCFCD4132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b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525780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ɑ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4211640" y="4076640"/>
            <a:ext cx="4648320" cy="895320"/>
            <a:chOff x="4211640" y="4076640"/>
            <a:chExt cx="4648320" cy="895320"/>
          </a:xfrm>
        </p:grpSpPr>
        <p:sp>
          <p:nvSpPr>
            <p:cNvPr id="488" name="WordArt 6"/>
            <p:cNvSpPr txBox="1"/>
            <p:nvPr/>
          </p:nvSpPr>
          <p:spPr>
            <a:xfrm>
              <a:off x="42116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ā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9" name="WordArt 7"/>
            <p:cNvSpPr txBox="1"/>
            <p:nvPr/>
          </p:nvSpPr>
          <p:spPr>
            <a:xfrm>
              <a:off x="5507280" y="407664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á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0" name="WordArt 8"/>
            <p:cNvSpPr txBox="1"/>
            <p:nvPr/>
          </p:nvSpPr>
          <p:spPr>
            <a:xfrm>
              <a:off x="680256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ǎ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1" name="WordArt 9"/>
            <p:cNvSpPr txBox="1"/>
            <p:nvPr/>
          </p:nvSpPr>
          <p:spPr>
            <a:xfrm>
              <a:off x="80978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à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92" name="Text Box 10"/>
          <p:cNvSpPr/>
          <p:nvPr/>
        </p:nvSpPr>
        <p:spPr>
          <a:xfrm>
            <a:off x="4859280" y="3573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799-0705-4E07-91E3-D1AAACDF1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562720" y="137160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284720" y="4005360"/>
            <a:ext cx="4647960" cy="895320"/>
            <a:chOff x="4284720" y="4005360"/>
            <a:chExt cx="4647960" cy="895320"/>
          </a:xfrm>
        </p:grpSpPr>
        <p:sp>
          <p:nvSpPr>
            <p:cNvPr id="497" name="WordArt 5"/>
            <p:cNvSpPr txBox="1"/>
            <p:nvPr/>
          </p:nvSpPr>
          <p:spPr>
            <a:xfrm>
              <a:off x="42847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ē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8" name="WordArt 6"/>
            <p:cNvSpPr txBox="1"/>
            <p:nvPr/>
          </p:nvSpPr>
          <p:spPr>
            <a:xfrm>
              <a:off x="55800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é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9" name="WordArt 7"/>
            <p:cNvSpPr txBox="1"/>
            <p:nvPr/>
          </p:nvSpPr>
          <p:spPr>
            <a:xfrm>
              <a:off x="687528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ě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00" name="WordArt 8"/>
            <p:cNvSpPr txBox="1"/>
            <p:nvPr/>
          </p:nvSpPr>
          <p:spPr>
            <a:xfrm>
              <a:off x="81709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è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01" name="Picture 12" descr="e57b0565-c5b2-444d-9e93-ecfe79fd6f75"/>
          <p:cNvPicPr/>
          <p:nvPr/>
        </p:nvPicPr>
        <p:blipFill>
          <a:blip r:embed="rId2"/>
          <a:stretch/>
        </p:blipFill>
        <p:spPr>
          <a:xfrm>
            <a:off x="0" y="404640"/>
            <a:ext cx="4067280" cy="5400720"/>
          </a:xfrm>
          <a:prstGeom prst="rect">
            <a:avLst/>
          </a:prstGeom>
          <a:ln w="0">
            <a:noFill/>
          </a:ln>
        </p:spPr>
      </p:pic>
      <p:pic>
        <p:nvPicPr>
          <p:cNvPr id="502" name="拔萝卜.mp3" descr=""/>
          <p:cNvPicPr/>
          <p:nvPr/>
        </p:nvPicPr>
        <p:blipFill>
          <a:blip r:embed="rId3"/>
          <a:stretch/>
        </p:blipFill>
        <p:spPr>
          <a:xfrm>
            <a:off x="18352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28D-6C52-4959-AC03-C2208987D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742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279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3"/>
          <p:cNvSpPr txBox="1"/>
          <p:nvPr/>
        </p:nvSpPr>
        <p:spPr>
          <a:xfrm>
            <a:off x="563868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4211640" y="4005360"/>
            <a:ext cx="4647960" cy="895320"/>
            <a:chOff x="4211640" y="4005360"/>
            <a:chExt cx="4647960" cy="895320"/>
          </a:xfrm>
        </p:grpSpPr>
        <p:sp>
          <p:nvSpPr>
            <p:cNvPr id="509" name="WordArt 5"/>
            <p:cNvSpPr txBox="1"/>
            <p:nvPr/>
          </p:nvSpPr>
          <p:spPr>
            <a:xfrm>
              <a:off x="42116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0" name="WordArt 6"/>
            <p:cNvSpPr txBox="1"/>
            <p:nvPr/>
          </p:nvSpPr>
          <p:spPr>
            <a:xfrm>
              <a:off x="550692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1" name="WordArt 7"/>
            <p:cNvSpPr txBox="1"/>
            <p:nvPr/>
          </p:nvSpPr>
          <p:spPr>
            <a:xfrm>
              <a:off x="68022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2" name="WordArt 8"/>
            <p:cNvSpPr txBox="1"/>
            <p:nvPr/>
          </p:nvSpPr>
          <p:spPr>
            <a:xfrm>
              <a:off x="80978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13" name="Picture 9" descr="c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E11-BA14-49FB-BD32-8B721303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666666"/>
          <p:cNvPicPr/>
          <p:nvPr/>
        </p:nvPicPr>
        <p:blipFill>
          <a:blip r:embed="rId1"/>
          <a:stretch/>
        </p:blipFill>
        <p:spPr>
          <a:xfrm>
            <a:off x="-60948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3551040" y="1557360"/>
            <a:ext cx="6523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白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白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wěi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尾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zuǐ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嘴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zài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在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17B1-D50A-4C8E-88BF-C7EF73AA2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666666"/>
          <p:cNvPicPr/>
          <p:nvPr/>
        </p:nvPicPr>
        <p:blipFill>
          <a:blip r:embed="rId1"/>
          <a:stretch/>
        </p:blipFill>
        <p:spPr>
          <a:xfrm>
            <a:off x="-324000" y="-136440"/>
            <a:ext cx="9649080" cy="7237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708360" y="1125360"/>
            <a:ext cx="5651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ě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尾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uǐ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嘴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à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AB30-1C7B-49D7-8576-CE3D1241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048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1:10Z</dcterms:created>
  <dc:creator/>
  <dc:description/>
  <cp:keywords/>
  <dc:language>en-US</dc:language>
  <cp:lastModifiedBy>User</cp:lastModifiedBy>
  <dcterms:modified xsi:type="dcterms:W3CDTF">2016-10-05T12:57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